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6176-0004-40AA-A512-BB5DE7641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C88C-D7D7-4624-B6EA-B19902529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range data in ascending order: 0, 5, 5, 15, 15, 20, 20, 20, 25, 30, 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lower extreme =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higher extreme = 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median =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lower quartile =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upper quartile = 25</a:t>
            </a: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9278-8CBE-43F3-93A6-4B19A96FE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range data in ascending order: 0, 5, 5, 15, 15, 20, 20, 20, 25, 30, 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median =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lower quartile =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upper quartile = 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tract the lower quartile from the higher quartile. Interquartile range =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y interquartile range by 1.5. 20 X 1.5 =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that to the upper quartile. 25 + 30 = 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tract that from the lower quartile. 5 - 30 = -25</a:t>
            </a: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C1C3-2E30-46AB-BE1F-E0AAD6AE0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DF73-87A7-4ABA-BFFB-EC546FCCB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62260A-8489-4C44-9391-4876240070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0D670D7A-DCBC-4754-8FEE-6B92451E58B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F87AE8-4406-4502-9344-B22F4FD930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9FAA76-04EA-4E15-BE2F-F13CE4C879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187271-7775-4754-BFE6-068EE5D851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C034C5-0835-4D71-A494-F0967EAFDC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DACCE7-57DC-49F8-952C-644BF7F81B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66C4FB-D591-4CE6-9142-670AA71648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5B8EBD-2CCD-4950-84BD-52E66952CC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22630A-0F34-41E5-84B1-2A66FE7776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E98817-7E96-4AFA-8783-E6C1FAE999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94B807-7485-470A-B4D5-05582642C5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E37F06AD-1087-4239-A70A-D0075A3C0DE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BE4423-1E8A-4BA0-9AA9-9850BF4C1F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8328B1-18B3-48A8-8C85-CC3463D0CD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04DA57-8D47-43FB-83CC-F2F2E407EE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4DCF65-DF24-4D8E-83AF-181C86BBF5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2F1F17-A865-40ED-AAD2-E2FD67FC0E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1EEDE1-EA8A-4AA6-A2D1-58D2957E63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734A7A-1F22-410E-B49F-D202C484BC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CB536A-1AD1-4CC9-AFB3-A6FD825089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9ADA29-A863-4378-9626-D99CB47533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3D1903-9148-4413-A1F3-CC78706978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EAD4AE62-13D3-4465-A82A-05DD3C3BF52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0EE3F9-7AF4-420B-8FF9-1CD7EDCDE8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F1A4469-BB4D-4B74-8EFD-6EA2E3BB70F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05CFA5-D6B8-4ACE-A7AC-1183CF2F62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ADF504-3B02-499C-B496-03E41CAD7D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C75491-E0BA-4F3D-B86F-11C32490D2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015D63-3A89-4010-B9E6-BC6BD470A5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EFAE5F3-B430-48E9-BF08-6F9497C244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25802A-F93B-4977-901D-A48ED15DF3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416240-C85C-40A4-9CD0-31DD4D2664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C34FC8-D0D1-4E01-9E22-BD8AC6C6C5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7FB5790-A17D-4598-BADD-601F3423A6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84167D-863B-4D3E-9952-37E58EC5F5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6840AA2-332D-49E8-93F6-53EB76932F1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77A1381-C4AA-4609-A531-B8D5111AFB2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E7969B0-C740-45FA-957D-F9B688A0188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DE4529-99F5-4103-AAF2-AAE6B9F4DA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01E8E1-B6CA-4FB1-8DAD-6D3DCB898F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E82989-2415-48CC-9555-7CF43D3F8E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13067C-6AC9-4467-9B5C-230668D50F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6E1028-E28B-4235-B20C-03E66F6EC67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E63368-BEC0-4657-82C0-B9B0F6CDC4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9C7444F0-102E-4CC0-9EC4-9732DB8758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563E9E-7EC0-4C8E-93E6-E050A04AC7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D6FF8D-F166-4720-9017-1774C89F7C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122DE0-11A6-4474-96F0-B472E4EA1DF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3978EA6-95A1-45FB-8D5E-7D1DF0C7744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3F93F3A-75F8-4BD7-88C0-4F1BBBB4F6E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64DA1059-D028-45D0-AE44-FFE461E333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23CB2DEC-9595-4E97-9122-43514DD297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BDA117E2-5678-481D-8D70-A11479A6D0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907580EB-B2B9-4FFA-BFE8-E5E32434AE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A354075B-E8FD-4581-B3E1-823B732BFE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FC52FC49-0B1D-4CA2-8D12-22204E008D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6897043B-4476-4069-8086-E5EDF3BAF9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1291503E-AE33-4419-868A-432A47B07D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7FA6923D-3927-40BE-A61D-1B8F0004D2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6EA4340E-2D6F-4653-8EB8-DF406027EA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36DCF2B2-A672-4EB6-82EE-75A305020E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792325-A765-4C4C-A4BD-7352F6514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F4FA8-79E8-443D-8545-7B2C8463F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319B3-E664-4CEE-921C-BB7F6FA73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C249A-C3DD-4B81-B24D-672E390CE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A25E4-6B53-477B-9C0E-BF90F7D5B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EA34F273-2334-4924-9555-A0972B6C59B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CB33F-A871-49CD-88F1-A4D4AF20C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41EE7-7C2E-4897-A652-50940DDE5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463C6-0A47-433A-AE93-D455E5B5E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9EA7C-999E-4EC3-9460-969C96806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E7007-BBF1-4A45-890E-8CDFD6FA5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8F6FB4-E1D0-4339-AE45-4C6EEF6FA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9AB64D-59AC-4F29-B98D-F6913065F1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6EAF7C-B483-4210-B508-7E0AB5D879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A5BA51-537E-49AA-B1E7-4CEF6A86C3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FEB7F6-E52F-4CDE-9190-BD285E557D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B9D6504B-E33E-4E11-8955-59870142B1E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81A1CD-E4B6-45CB-B9A1-7BF42FF7E4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FF9E18-542C-4444-91B2-ABA000960F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183374-E4F4-4DE9-935C-B477BB9034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8AF0B3-9EA0-40B7-91AF-00C7772F30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B12DCD-DF9A-42E5-AE55-8BECA5B284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AF86B3-D1A9-4667-A0DE-500EDC224A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1F8236-8D1E-4781-A6B7-2A40270F96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7E8AD3-4B96-41A2-B3EC-5EC75608B2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6FAC0B-A3A5-4019-BF77-B1E1F4C081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C5F389-6AEE-4523-88C0-7C26114829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E5A56326-B74A-46D2-8AEA-00C373B56FD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CD0E1E-4E4F-4949-93A2-CB3C970F16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5D8681-3DA9-4653-83F8-0972E62B27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4EB637-3ED9-4F28-A6C5-A094309875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3C3882-DA6E-484D-B0FE-F7DF3925A4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14C922-2E99-4FD9-ADB7-580EDA523A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CFEE08-7FCD-492F-99F6-D2D77DEAB5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E4C989-E5B4-4435-991A-920EC164B2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2D896D-09F6-469E-A6A0-EA3EE323FC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A57496-87B4-4ED5-845B-8C4DB4E912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71B1F5-E67D-4053-8969-189FD26B3A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B547D1AC-C11D-4639-8C0A-BED27230E77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C9DF41-7B2E-4691-8836-917C042FC2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DE8582-44A4-48B9-8415-73F99A6587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820D34-956A-4519-860A-F5BB2116EC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8DB66B-8476-4C49-8D2C-B17FFE7C4E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E97772-F754-460A-8B0A-713CE660D0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F37724-B59B-40F0-88B4-DE3BB2A005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7082DE-F0F5-4314-9DEC-3ED27DF982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B45218-62BF-4981-A395-8CC1045BC3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0EE07B-00A1-47E9-B39A-7820255BBD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9B0317-AA7A-453E-8069-85ACA2ADAE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F4283EA0-137C-43FD-9F65-2D45E61D708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F478B1-8F49-45D4-8C58-9403BAE5A1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F75BD7-6AA0-4EEA-A0C1-2108B0B79C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3A1D25-A6C9-4E8B-ABBD-CF953AA972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98C49B-C7EB-48A7-A43B-61D36717E3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9B15CE-E457-42BE-866C-62A541D539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FE5437-DBF4-47A9-9C75-D0430E23C8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1B504D-7829-44B6-A8D8-A16CDF9F82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07042F-08AA-4B3D-AC44-C22BE3D98B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D81AA3-FE1B-473F-8B72-89187E812A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3E897B-2731-43F9-9578-B5DF014AEA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628D849D-D611-4481-A79F-E083074853C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01BF12-15E7-4E8C-9420-5C80595EAA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D16BC9-FBF4-42B1-B4DF-0CA31A411B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D48133-52DD-4F06-BF5B-3BCF932799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FF8C3D-5A33-4407-92D8-FD9CF96544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D30565-1868-49C7-8E3B-DDEB5B7B67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07C9C4-6AE1-440D-9756-80E6EFE45F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52F780-9966-42F9-B436-9B8C62AA44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8DE20E-2C94-4F1A-B6AC-85B866C1DB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1E00B8-EE44-474C-9F3C-D4AA0EDE81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EB0583-E364-45DC-A9F4-857202A673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D1BDE874-FA76-49CA-9DD0-5EB84C9C64F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23B84C-0769-48BB-A61A-2B274400ED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E90CDB-EFF5-4F1C-A3D1-2F76205248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73DC86-BAFA-4B39-9DB1-C9F76CD583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C3BC88-2DE8-44B1-A399-719DB57B24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5C95BA-B146-4FDC-A541-C2F9F36F8B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9775BF-FB0A-4A4C-B408-974ADFE38E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D9AE8B-0EA0-4F54-B135-48384256EC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724934-C28A-468D-BEEA-69171152BC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95EF91-5ECF-4433-8EE4-EB3FF0C26D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435C75-F6CA-4AF0-9B53-80E214F58E1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DD3AD-05FB-4BF4-A474-ADBD242673B0}"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FDDF-886B-44B0-816A-451F526214FD}"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1A31-37AE-4D51-91C4-68946A3F9D97}"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180D-7236-4126-82BE-8302582565AA}"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200E-3B27-47EE-A567-DF2C3809BE51}"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31398-0F4E-4E4C-8C8F-AA5C4F993294}"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61003-79C6-4685-8F32-9E9CB27E8E73}"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796B-7BDF-428B-9BB9-F2DBA9C162CC}"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B56D-F751-4C94-B1FA-3F29EC90746D}"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0B4E-5D1D-4522-81E8-A6C73DEF9771}"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C0043-23FF-408E-8B13-D659CF84F989}"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6C6D-CA8F-40DD-B11A-B8714550B2A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14</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7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nstructions for finding outliers</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ort the data in ascending order.</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Example data set: {4, 5, 2, 3, 15, 3, 3, 5}.</a:t>
            </a:r>
            <a:endParaRPr b="0" lang="en-US" sz="20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orted, it is {2, 3, 3, 3, 4, 5, 5, 15}.</a:t>
            </a:r>
            <a:endParaRPr b="0" lang="en-US" sz="20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the median. This is the number at which half of the data points are larger and half are smaller. If there is an even number of data points, the middle two are averaged.</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n the example data set, the middle points are 3 and 4, so the median is (3 + 4)/2, or 3.5.</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7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nstructions for finding outliers</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the upper quartile, Q2. This is the data point at which 25% of the data are larger. If the data set is even, average the two points around the quartile.</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n the example data set, this is (5 + 5)/2, or 5.</a:t>
            </a:r>
            <a:endParaRPr b="0" lang="en-US" sz="20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the lower quartile, Q1. This is the data point at which 25% of the data are smaller. If the data set is even, average the two points around the quartile.</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n the example data set, (3 + 3)/2, or 3.</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7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nstructions for finding outliers</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ubtract the lower quartile from the higher quartile to get the interquartile range, IQ.</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n the example data set, Q2 - Q1 = 5 - 3, or 2.</a:t>
            </a:r>
            <a:endParaRPr b="0" lang="en-US" sz="20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Multiply the interquartile range by 1.5. Add this to the upper quartile and subtract it from the lower quartile. Any data point outside these values is a mild outlier.</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n the example set, 1.5 x 2 = 3. 3 - 3 = 0 and 5 + 3 = 8. So any value less than 0 or greater than 8 would be a mild outlier. This means that 15 qualifies as an outlier.</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test the soil pH of their home gardens. Each student brings in a sample of the soil used in their home gardens and runs pH tests. The class data is statistically analyzed.</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hat is the five-number summary of the data set?</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s there an outlier in the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Determining the five-number summary:</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rrange data in ascending order.</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rd lower extreme. (lowest valu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rd higher extreme. (highest valu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rd median. (middle term)</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rd lower quartile. (median of lower half of data)</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rd upper quartile. (median of upper half of data)</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3" name=""/>
          <p:cNvSpPr txBox="1"/>
          <p:nvPr/>
        </p:nvSpPr>
        <p:spPr>
          <a:xfrm>
            <a:off x="304920" y="1554120"/>
            <a:ext cx="8686800" cy="4525920"/>
          </a:xfrm>
          <a:prstGeom prst="rect">
            <a:avLst/>
          </a:prstGeom>
          <a:noFill/>
          <a:ln w="0">
            <a:noFill/>
          </a:ln>
        </p:spPr>
        <p:txBody>
          <a:bodyPr anchor="t">
            <a:normAutofit fontScale="98000"/>
          </a:bodyPr>
          <a:p>
            <a:pPr marL="335880" indent="-335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ing an outlier:</a:t>
            </a:r>
            <a:endParaRPr b="0" lang="en-US" sz="28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rrange data in ascending order.</a:t>
            </a:r>
            <a:endParaRPr b="0" lang="en-US" sz="24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median.</a:t>
            </a:r>
            <a:endParaRPr b="0" lang="en-US" sz="24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upper quartile.</a:t>
            </a:r>
            <a:endParaRPr b="0" lang="en-US" sz="24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lower quartile.</a:t>
            </a:r>
            <a:endParaRPr b="0" lang="en-US" sz="24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ubtract the lower quartile from the higher quartile to get the interquartile range.</a:t>
            </a:r>
            <a:endParaRPr b="0" lang="en-US" sz="24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Multiply the interquartile range by 1.5. Add this to the upper quartile and subtract from the lower quartile. Any data outside of these values is an outlier.</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e following is the pH data from the students’ home garde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7, 6.8, 6.5, 6.9, 6.2, 7.2, 6.4, 6.2, 6.6</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hat is the five-number summary of the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rrange data in ascending orde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2, 6.2, 6.4, 6.5, 6.6, 6.7, 6.8, 6.9, 7.2</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lower extreme = 6.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higher extreme = 7.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median = 6.6</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lower quartile = 6.3</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upper quartile = 6.85</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Five-number summary = (6.2, 6.3, 6.6, 6.85, 7.2)</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gain, the following is the pH data from the students’ home garde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7, 6.8, 6.5, 6.9, 6.2, 7.2, 6.4, 6.2, 6.6</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s there an outlier in the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Fundamental Plant Science students complete soil tests, examine the data, and draw conclusion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9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rrange data in ascending orde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2, 6.2, 6.4, 6.5, 6.6, 6.7, 6.8, 6.9, 7.2</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median = 6.6</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lower quartile = 6.3</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upper quartile = 6.85</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ubtract the lower quartile from the high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nterquartile range: 6.85 – 6.3 = 0.55</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9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ultiply interquartile range by 1.5.</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0.55 X 1.5 = 0.825</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dd that to the upp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85 + 0.825 = 7.68</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ubtract that from the low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3 - 0.825 = 5.48</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There are no values in this data set that are outside the range of 5.48 to 7.68. Therefore, no, there are not any outliers in this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9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test the various soil nitrate levels using testing strips.</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e following is the amount of</a:t>
            </a:r>
            <a:br>
              <a:rPr sz="2800"/>
            </a:br>
            <a:r>
              <a:rPr b="0" lang="en-US" sz="2800" spc="-1" strike="noStrike">
                <a:solidFill>
                  <a:srgbClr val="4e3b30"/>
                </a:solidFill>
                <a:latin typeface="Verdana"/>
              </a:rPr>
              <a:t>nitrate found in each soil tes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45 ppm, 30 ppm, 20 ppm, 25 ppm, 5 ppm, 35 ppm, 40 ppm, 45 ppm, 40 ppm, 20 ppm, 30 ppm</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hat is the five-number summary of the data set?</a:t>
            </a:r>
            <a:endParaRPr b="0" lang="en-US" sz="2800" spc="-1" strike="noStrike">
              <a:solidFill>
                <a:srgbClr val="4e3b30"/>
              </a:solidFill>
              <a:latin typeface="Verdana"/>
            </a:endParaRPr>
          </a:p>
        </p:txBody>
      </p:sp>
      <p:pic>
        <p:nvPicPr>
          <p:cNvPr id="596" name="Picture 1" descr=""/>
          <p:cNvPicPr/>
          <p:nvPr/>
        </p:nvPicPr>
        <p:blipFill>
          <a:blip r:embed="rId1"/>
          <a:stretch/>
        </p:blipFill>
        <p:spPr>
          <a:xfrm>
            <a:off x="6629400" y="2133720"/>
            <a:ext cx="1990800" cy="1218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98"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rrange data in ascending orde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5, 20, 20, 25, 30, 30, 35, 40, 40, 45, 45 </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lower extreme = 5</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higher extreme = 45</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median = 3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lower quartile = 2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upper quartile = 4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Five-number summary = (5, 20, 30, 40, 45)</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600"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gain, the following is the amount of nitrate found in each soil tes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45 ppm, 30 ppm, 20 ppm, 25 ppm, 5 ppm, 35 ppm, 40 ppm, 45 ppm, 40 ppm, 20 ppm, 30 ppm</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s there an outlier in the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602"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rrange data in ascending orde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5, 20, 20, 25, 30, 30, 35, 40, 40, 45, 45</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median = 3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lower quartile = 2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upper quartile = 4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ubtract the lower quartile from the high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nterquartile range = 20</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604"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ultiply interquartile range by 1.5.</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20 X 1.5 = 30</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dd that to the upp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40 + 30 = 70</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ubtract that from the low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20 - 20 = 0</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There are no values in this data set that are outside the range of 0 to 70. Therefore, no, there are not any outliers in this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06"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test the various soil phosphate levels using testing strips.</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e following is the amount of</a:t>
            </a:r>
            <a:br>
              <a:rPr sz="2800"/>
            </a:br>
            <a:r>
              <a:rPr b="0" lang="en-US" sz="2800" spc="-1" strike="noStrike">
                <a:solidFill>
                  <a:srgbClr val="4e3b30"/>
                </a:solidFill>
                <a:latin typeface="Verdana"/>
              </a:rPr>
              <a:t>nitrate found in each soil tes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5 ppm, 20 ppm, 15 ppm, 0 ppm, 25 ppm, 40 ppm, 20 ppm, 15 ppm, 5 ppm, 20 ppm, 30 ppm </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hat is the five-number summary of the data set?</a:t>
            </a:r>
            <a:endParaRPr b="0" lang="en-US" sz="2800" spc="-1" strike="noStrike">
              <a:solidFill>
                <a:srgbClr val="4e3b30"/>
              </a:solidFill>
              <a:latin typeface="Verdana"/>
            </a:endParaRPr>
          </a:p>
        </p:txBody>
      </p:sp>
      <p:pic>
        <p:nvPicPr>
          <p:cNvPr id="607" name="il_fi" descr="http://www4.agr.gc.ca/resources/prod/img/terr/images/1234205624280_image1.gif"/>
          <p:cNvPicPr/>
          <p:nvPr/>
        </p:nvPicPr>
        <p:blipFill>
          <a:blip r:embed="rId1">
            <a:lum bright="20000"/>
          </a:blip>
          <a:stretch/>
        </p:blipFill>
        <p:spPr>
          <a:xfrm>
            <a:off x="6553080" y="2133720"/>
            <a:ext cx="2190960" cy="120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0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Five-number summary = (0, 5, 20, 25, 40)</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1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gain, the following is the amount of</a:t>
            </a:r>
            <a:br>
              <a:rPr sz="2800"/>
            </a:br>
            <a:r>
              <a:rPr b="0" lang="en-US" sz="2800" spc="-1" strike="noStrike">
                <a:solidFill>
                  <a:srgbClr val="4e3b30"/>
                </a:solidFill>
                <a:latin typeface="Verdana"/>
              </a:rPr>
              <a:t>nitrate found in each soil tes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5 ppm, 20 ppm, 15 ppm, 0 ppm, 25 ppm, 40 ppm, 20 ppm, 15 ppm, 5 ppm, 20 ppm, 30 ppm</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s there an outlier in the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undamental Plant Science PS.2.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examine data to evaluate and manage soil/media and nutrient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est soil/media and plant tissue for nutrient levels.</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nterpret test of soil/media and/or plant tissu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1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No, there are not any values outside of -25 to 55, so there are no outliers in this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1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test the soil pH of the soils around the school building prior to planting flowers. Here is the recorded pH data from various locations and a representative samp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5.8, 5.1, 5.0, 8.0, 5.3, 5.5, 5.8</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1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hat is the five-number summary of the data se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Answer: (5.0, 5.1, 5.5, 5.8, 8.0)</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s there an outlier in the data se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Answer: Yes, 8.0 is an outlier because it is out of the acceptable range of 4.05 to 6.85.</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9-12.S.1.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able to draw conclusions from a set of data.</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ve-number summary</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Consists of the upper and lower extremes, the median, and the upper and lower quartile.</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Upper extreme = Greatest number that occurs in the set</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Lower extreme = Lowest number that occurs in the set</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Median = Middle term when data arranged least to greatest</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Upper quartile = Median of the upper half of data</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Lower quartile = Median of the lower half of data</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eps to determining quartiles:</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rrange data in order from least to greatest.</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the median.</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the middle term of each half of the data on either side of the median. These values are the upper and lower quartile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xamp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Consider the set {1, 3, 4, 5, 6, 7, 9}. </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lower extreme is 1. </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lower half is {1, 3, 4}, and the middle term of that half is 3. Therefore, the lower quartile is 3. </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median is the middle term, 5. </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upper half is {6, 7, 9}, and the middle term of that half is 7. Therefore, the upper quartile is 7. </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upper extreme is 9.</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Outlier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n outlier is a value in a data set that is far from the other values. Outliers can be caused by experimental errors, measurement errors, or by a long-tailed population.</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Outlier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n the former cases, it can be desirable to identify outliers and remove them from data before performing a statistical analysis, because they can throw off the results and inaccurately represent the sample population.</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he simplest way to identify outliers is with the quartile method.</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8-05T20:06:17Z</dcterms:modified>
  <cp:revision>23</cp:revision>
  <dc:subject/>
  <dc:title>South Dakota Ag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90040325</vt:r8>
  </property>
  <property fmtid="{D5CDD505-2E9C-101B-9397-08002B2CF9AE}" pid="3" name="_AuthorEmail">
    <vt:lpwstr>Tiffany.Sanderson@state.sd.us</vt:lpwstr>
  </property>
  <property fmtid="{D5CDD505-2E9C-101B-9397-08002B2CF9AE}" pid="4" name="_AuthorEmailDisplayName">
    <vt:lpwstr>Sanderson, Tiffany</vt:lpwstr>
  </property>
  <property fmtid="{D5CDD505-2E9C-101B-9397-08002B2CF9AE}" pid="5" name="_EmailSubject">
    <vt:lpwstr>AFNR Integration Strategies - 2 of 2</vt:lpwstr>
  </property>
</Properties>
</file>